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C98-E122-4BD6-9766-BD21136F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3DB-AA3C-4D46-8A9B-F0F1008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044-6F3D-468F-94BD-574B0B7B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8E5-B095-4932-BF77-23432EAA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96-58A2-40E0-AB99-3DFE7F6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DD9-F51E-4C7B-BD7A-683E7FC1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067-A555-49E8-BAC5-71E4E4A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D25-489A-479B-9C6F-ED2F9B6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C3B-00CC-4C82-BEE9-B46A3E3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DD2-FB84-4F9B-B753-25F4B68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7B8-A060-46B0-9EEE-316B784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3D4-8215-480D-87A4-FBA96F4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847-D443-493E-B0C5-47CF9733C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913040"/>
            <a:ext cx="85471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300" spc="-1" strike="noStrike">
                <a:solidFill>
                  <a:srgbClr val="e5ffff"/>
                </a:solidFill>
                <a:latin typeface="'times new roman'"/>
              </a:rPr>
              <a:t>The Catacombs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Pa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79520" y="60948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bsites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1840" y="1730520"/>
            <a:ext cx="74170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catacombes-de-paris.fr/english.ht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thecircumference.org/catacombs-of-par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hat is The Catacomb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comb is a tunnel in France, it was converted into a mass tomb near the end of the 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180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alls of Catacom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4782960"/>
            <a:ext cx="3556080" cy="25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2120" y="3619440"/>
            <a:ext cx="3873600" cy="315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4440" y="1996920"/>
            <a:ext cx="7616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combes des Paris of Catacombs of Paris is where the dead were put for about 30 years, as you can see they put the dead in the w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hy People Are So Interested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are wanting to go to the Catacombs for what reason??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are so interested because it is different. After it is was created it came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40160" y="4148280"/>
            <a:ext cx="50068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The Cost Of Go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st of going to the Catacombs is €5 which for our money it would be about $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51160" y="3657600"/>
            <a:ext cx="3021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84440" y="507960"/>
            <a:ext cx="5187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ffffff"/>
                </a:solidFill>
                <a:uFillTx/>
                <a:latin typeface="Arial"/>
              </a:rPr>
              <a:t>The Histo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1760" y="1930320"/>
            <a:ext cx="8258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ople decided that they wanted to stop people from putting more bodies in there.  That they decided on November 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17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56080" y="3860640"/>
            <a:ext cx="27604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79520" y="914400"/>
            <a:ext cx="5187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How It Starte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5600" y="1930320"/>
            <a:ext cx="7718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started because they were in need to store the dead bo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54560" y="3352680"/>
            <a:ext cx="2400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0040" y="609480"/>
            <a:ext cx="6507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Good Exerciser Or No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2031840"/>
            <a:ext cx="519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there are 213 steps. That's a l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79520" y="609480"/>
            <a:ext cx="5194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1360" y="1523880"/>
            <a:ext cx="2087280" cy="31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727280"/>
            <a:ext cx="2979720" cy="260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56080" y="4876920"/>
            <a:ext cx="2558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